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269B-2DFC-4634-ACC6-83B1C2961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FF70-8C6B-4FA7-9DA5-1BD59F698D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9352-A5BD-4704-AA9C-945C404D2C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3B23-8E13-42B2-AFD1-B88DC0329E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EC18-ED6B-48D4-AC27-7FA0ADC0D9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41D3-F16E-4BEA-B01C-46BBCF225B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0B57-F14A-443B-A4D7-03B23AA142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C4C9-F40E-4E3D-9CB6-68B138FCD3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CA8-2150-4400-AD9D-EAC952F420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E1AC-7E1C-435B-8CCD-EBC82BB5E5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5AD9-37BD-4983-9B26-60B2BD2545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6E4B-8E2A-4E14-8D40-EBF0D06A76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29FF-C12F-4FBD-8860-BACBBE4E16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3CD1-EC83-4A9A-9B49-B2EF2B6ED0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BD44-0FC6-45A0-ADA6-63DDA57F35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08D0-7CE2-4434-90F3-9C81CFAB5F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1DA2-FF52-4E9B-8A5B-453591AAE3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92DD-65A0-44AC-82A2-D8EB349374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1D1B-D23C-4A31-8D00-718C70C5C9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92F-2100-4969-B4B6-BEE9B634FC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CDBE-E556-4F92-B975-9469EDD4CC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561-B20C-46FA-B995-693CBA13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D5A-59DC-465F-A863-12B0886A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F72-3A86-4F32-9B20-F5234876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D5D-29EE-44F8-90C6-4501F8B9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77A7-4060-4E44-BABD-74FD4D9B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CCDF-0C6C-433D-B02D-17230AA5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CE39-1504-49C1-B2D2-0C09CE66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BB1D-03E2-4334-9AE0-30695DD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A9FE-2025-4732-96C3-0BC204AE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C046-46A7-4C34-92D9-E0B05979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88E6-0A35-441E-AF0E-2455EF57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A70-DD6C-462B-B399-DD279F2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17B4-4D5A-41A7-B3E6-98975647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E896-7C0D-45A7-9849-06FDBD1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0920-F5B8-4F9E-990F-6A7C49E0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4779-3E35-41BF-BBDB-933AD6BF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5B52-FF16-4C4C-835E-0EA30366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143-D520-469C-A8E6-A7823E02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997-144B-406B-AF2E-915E7B73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C45-FDD3-41B4-A31E-528B5A8B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0D9-A1F2-4AC1-8DCB-FE0A4BF4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BF9-0A5A-4B4D-B07F-79755A59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91C-158E-48FD-B72B-566076E0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E66-C826-41BA-A146-E3F55A0D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94BC-AD66-47DD-A588-BA8AA27F07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66C8-4EAC-465C-8F72-B84C425FBE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iedigerfarms.com/wholesale/ipm/ladybugmd.jpg&amp;imgrefurl=http://www.driedigerfarms.com/wholesale/ipm/&amp;h=253&amp;w=300&amp;sz=26&amp;tbnid=EyfZQcWjuM8J:&amp;tbnh=93&amp;tbnw=110&amp;start=36&amp;prev=/images%3Fq%3Dintegrated%2Bpest%2Bmanagement%26start%3D20%26hl%3Den%26lr%3D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12 – Agriculture and the Environ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y Concept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ance of soi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stainable farming pract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ert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ctory Far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P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ms at control not 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 combo of methods inc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logic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insectic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crop planting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M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hybr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inator G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 transfer (transgenic cro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ome Causes of Des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or farm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gr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emical poisoning of the s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esterson Wildlife Refu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wetl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y 1980s received agricultural drainage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supposed to drain to sea, didn’t finish it (oops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 accumulated in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-irrigating to leach out salt buildup  caused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5" descr="image of location map shows kesterson national wildlife refuge, cretaceous and tertiary sedimentary basins, and locations of onshore oil and gas fields, highlighting the Cheney Ranch 1 and Magnet Fearon 2 oil wells"/>
          <p:cNvPicPr/>
          <p:nvPr/>
        </p:nvPicPr>
        <p:blipFill>
          <a:blip r:embed="rId1"/>
          <a:stretch/>
        </p:blipFill>
        <p:spPr>
          <a:xfrm>
            <a:off x="3505320" y="1676520"/>
            <a:ext cx="4886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au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verting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tting 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nging weather patterns/ Global climat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00"/>
                </a:solidFill>
                <a:latin typeface="Garamond"/>
              </a:rPr>
              <a:t>Desertification dat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Who’s most immediately affe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70 percent of the world's drylands are degraded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in the world are affected to some degree by desertification.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Globally it is estimated that the annual income lost in the areas affected by desertification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Map of Africa Indicating Desertification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Important Legis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Resear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ecurities 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 Agriculture Research and Educatio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UNCCD: 19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nvention to Combat Des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nations ra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 million dollars to fund projects to stop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actory Farming: Increasing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iotics are commonly used in animal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are bred to grow faster and to be more desirable for mar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 chickens with more breast m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thetic hormones are approv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k production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ef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l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 corn instead of gra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ned in a smal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cal material accumul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ease spreads read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s used to control dis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oilparticles"/>
          <p:cNvPicPr/>
          <p:nvPr/>
        </p:nvPicPr>
        <p:blipFill>
          <a:blip r:embed="rId1"/>
          <a:stretch/>
        </p:blipFill>
        <p:spPr>
          <a:xfrm>
            <a:off x="2362320" y="380880"/>
            <a:ext cx="61722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6171840" y="51814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ste Production..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requ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r/airborn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treatment regulations are more lax than for waste from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Ero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26856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- organic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erals (bott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- zone of le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– high in leached minerals from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– original parent mater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410080" y="1219320"/>
            <a:ext cx="3733920" cy="4597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als of sustainable farm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ustainable farming practices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following reduce soil erosion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ontour p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Terracing hill s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Shelterbe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Low or No Till Plowing (wind and w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op Rotation (keeps nutrient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heavy feeders, mod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eders with soil bui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ver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during fallow(off) sea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nitrates from leaching out of top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keep soil orgs healthy and “fe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excess N from runoff into water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d Pest Management (I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tegrated 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ladybug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152280"/>
            <a:ext cx="1047600" cy="8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photo: Blackheaded fireworm larva"/>
          <p:cNvPicPr/>
          <p:nvPr/>
        </p:nvPicPr>
        <p:blipFill>
          <a:blip r:embed="rId3"/>
          <a:stretch/>
        </p:blipFill>
        <p:spPr>
          <a:xfrm>
            <a:off x="685800" y="1523880"/>
            <a:ext cx="1600200" cy="28861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762120" y="4952880"/>
            <a:ext cx="3047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nberry and damage: black headed firewor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sonal flooding to control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0" descr="photo: Fireworm larvae damage"/>
          <p:cNvPicPr/>
          <p:nvPr/>
        </p:nvPicPr>
        <p:blipFill>
          <a:blip r:embed="rId4"/>
          <a:stretch/>
        </p:blipFill>
        <p:spPr>
          <a:xfrm>
            <a:off x="2590920" y="1523880"/>
            <a:ext cx="1447560" cy="292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a-cuc"/>
          <p:cNvPicPr/>
          <p:nvPr/>
        </p:nvPicPr>
        <p:blipFill>
          <a:blip r:embed="rId5"/>
          <a:stretch/>
        </p:blipFill>
        <p:spPr>
          <a:xfrm>
            <a:off x="4267080" y="152388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thrips"/>
          <p:cNvPicPr/>
          <p:nvPr/>
        </p:nvPicPr>
        <p:blipFill>
          <a:blip r:embed="rId6"/>
          <a:stretch/>
        </p:blipFill>
        <p:spPr>
          <a:xfrm>
            <a:off x="6477120" y="1523880"/>
            <a:ext cx="1904760" cy="2971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6"/>
          <p:cNvSpPr/>
          <p:nvPr/>
        </p:nvSpPr>
        <p:spPr>
          <a:xfrm>
            <a:off x="4267080" y="4952880"/>
            <a:ext cx="4038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ft photo:  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edatory mite (IPM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ouring a thrips, an agicultural pest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ght photo:  the thrips by itsel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8:42:30Z</dcterms:created>
  <dc:creator>tosborne</dc:creator>
  <dc:description/>
  <dc:language>en-US</dc:language>
  <cp:lastModifiedBy>infosys</cp:lastModifiedBy>
  <dcterms:modified xsi:type="dcterms:W3CDTF">2015-11-13T21:25:33Z</dcterms:modified>
  <cp:revision>40</cp:revision>
  <dc:subject/>
  <dc:title>Slide 1</dc:title>
</cp:coreProperties>
</file>